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7F6DE-AADA-40C3-A41C-8C7B93C15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A4C4F-BF28-4EF7-A1C2-23BF3766A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24A03-CE71-4BE6-880A-2899D44C8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65A28-2592-43AB-AEC1-D2054F5D2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13ED4-14A3-4389-AFEE-F6537A16E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FFC01-8D5B-4E78-87B6-42A55435F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D698D-1405-43EB-9E60-61287B8A6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D049F-769B-4FF0-9963-9330DC84E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056EA-0EF3-4F44-96A4-7E8EE15E8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AD4C7-041E-4D62-B286-5B67F531C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F6CFF-4FC2-4793-B005-18D757D4D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DE92-6656-46BB-B995-39F8A3481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C15D0-853C-48B5-9059-88CD1149B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4DB57-70D2-444A-9C3A-68C01FDA1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370F1-5FDB-4B16-BF84-09DB87020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28A8B-29A6-4405-8730-A28BDE771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596DD-FEE6-4DC2-A19D-935D0B409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4DD724-F347-4A63-B3AA-42F543D83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7EB898-96B3-49E8-A28A-39F76667E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472A5-F94C-4889-B8AE-E15ED21EC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A0708-4CEF-4062-BAB9-2C099BFBC9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1C75D-80E6-4957-814D-3ABF6EEBC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9690B-77DB-4255-81F2-76401787E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53B889-BFD1-4EAB-B10E-23E3FD226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B2320-2A27-4E43-A626-8FA40C7D0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9A72B-F0FB-4F29-99F5-A7F91CD31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24247-0B8F-4336-99F3-B632F36EA2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A568F5-1159-4FE1-8008-37E7B9F3F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830B33-9F82-43AC-9A18-36E86E7C7F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6CA7F1-9A8A-4B9A-BBFE-B18E490CF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A0AE56-12DF-4C59-9BF9-91CAAD0054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888ED-DDD9-46D4-8BDD-9BC649641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77382-CFBF-4D36-903D-B174F50885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77211-B11D-4267-A003-12A7A78B6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806D61-87D9-42D4-916A-1AD3D88E5D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1DD6FA-C819-4DD2-9D9A-75B20D065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D69752-5D69-4467-93EB-2B561021A4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CE0CC-207C-4EFA-A768-FD5CF3851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DC7E3-8380-4731-B658-446541420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E0DB9-B250-4BC8-8923-4E8E0FA9A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6115E-F2DE-4A24-B3AC-D9830E847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6AE874-D396-4317-81D8-56DD06D658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25F939-67EB-4A8A-9200-52EB26D466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AF9AF4-3FDA-4AF3-8F4B-9C59D7B13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1093-D617-41EC-84C4-0C5F77344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202E0F-E6F7-43A4-A31A-367885C52C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5967AC-45C1-4DFB-9BDE-E2FC5767D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2C9C4E-D471-4C1F-88E6-E58EA4D349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7BF434-B4C0-4592-8C06-7D0BF27394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5B63C-37F3-4E15-87C0-EF449DA9C0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D08DB-81EA-4881-B5F1-4C04B1346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A7393-D8AD-40A0-9C95-373F81828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1634B-C390-4429-BF4F-E1189CB3E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2C45B-BB53-4E94-B9EB-C3DEFBFEDE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210136-EE62-4D82-B873-A53DB98A5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31423-89AE-4144-81DC-54C409FF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6AB460-4E66-4EA6-9285-5DAEDED198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725CB-BCD8-484A-A1CA-79948FEA3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880B-5283-4825-9381-076F2F811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9DBC-4AA7-4ED3-89F4-6A233EA14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4621-2C51-401E-AFA4-EEAD52699D0C}"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55C4-9C03-43F7-BE46-39D138B30AE7}"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1367-BE3B-4038-8D4D-06BEA15AC102}"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1CB6-F0C5-4C8B-BD61-C975392988B6}"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0B54-AFA8-4FCE-B6A8-B9202457E9F0}"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96464"/>
                </a:solidFill>
                <a:latin typeface="Perpetua"/>
              </a:rPr>
              <a:t>Character Profiles and Analysis</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Franklin Gothic Book"/>
              </a:rPr>
              <a:t>I’m Not Scare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439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Innocence (cont.)</a:t>
            </a:r>
            <a:endParaRPr b="0" lang="en-US" sz="3600" spc="-1" strike="noStrike">
              <a:solidFill>
                <a:srgbClr val="696464"/>
              </a:solidFill>
              <a:latin typeface="Franklin Gothic Book"/>
            </a:endParaRPr>
          </a:p>
        </p:txBody>
      </p:sp>
      <p:sp>
        <p:nvSpPr>
          <p:cNvPr id="247" name=""/>
          <p:cNvSpPr txBox="1"/>
          <p:nvPr/>
        </p:nvSpPr>
        <p:spPr>
          <a:xfrm>
            <a:off x="457200" y="999720"/>
            <a:ext cx="8229600" cy="5286600"/>
          </a:xfrm>
          <a:prstGeom prst="rect">
            <a:avLst/>
          </a:prstGeom>
          <a:noFill/>
          <a:ln w="0">
            <a:noFill/>
          </a:ln>
        </p:spPr>
        <p:txBody>
          <a:bodyPr anchor="t">
            <a:normAutofit fontScale="91000"/>
          </a:bodyPr>
          <a:p>
            <a:pPr marL="248040" indent="-2480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Makes up story about the half-brother to excuse his father’s involvement (p.67)</a:t>
            </a:r>
            <a:endParaRPr b="0" lang="en-US" sz="2800" spc="-1" strike="noStrike">
              <a:solidFill>
                <a:srgbClr val="000000"/>
              </a:solidFill>
              <a:latin typeface="Perpetua"/>
            </a:endParaRPr>
          </a:p>
          <a:p>
            <a:pPr marL="248040" indent="-2480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nsequences are centred on parental discipline. He wanted to save Filippo from being shot but needed to get home before his parents found him missing (p.207)</a:t>
            </a:r>
            <a:endParaRPr b="0" lang="en-US" sz="2600" spc="-1" strike="noStrike">
              <a:solidFill>
                <a:srgbClr val="000000"/>
              </a:solidFill>
              <a:latin typeface="Perpetua"/>
            </a:endParaRPr>
          </a:p>
          <a:p>
            <a:pPr marL="248040" indent="-2480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aterial possessions, in the beginning, were highly valued: for example, Subbuteo team (p. 131-132). His rejection of the Red Dragon bike at the end indicates a shift in his values and perspectives (p.163-165)</a:t>
            </a:r>
            <a:endParaRPr b="0" lang="en-US" sz="2600" spc="-1" strike="noStrike">
              <a:solidFill>
                <a:srgbClr val="000000"/>
              </a:solidFill>
              <a:latin typeface="Perpetua"/>
            </a:endParaRPr>
          </a:p>
          <a:p>
            <a:pPr marL="248040" indent="-2480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is reference-points to explain situations are very child-like, for example, when Sergio threatens Felice he describes it as being like ‘one-two-three-star’ (p.194)</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285480"/>
            <a:ext cx="8229600" cy="725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Intelligent and Perceptive</a:t>
            </a:r>
            <a:endParaRPr b="0" lang="en-US" sz="3600" spc="-1" strike="noStrike">
              <a:solidFill>
                <a:srgbClr val="696464"/>
              </a:solidFill>
              <a:latin typeface="Franklin Gothic Book"/>
            </a:endParaRPr>
          </a:p>
        </p:txBody>
      </p:sp>
      <p:sp>
        <p:nvSpPr>
          <p:cNvPr id="249" name=""/>
          <p:cNvSpPr txBox="1"/>
          <p:nvPr/>
        </p:nvSpPr>
        <p:spPr>
          <a:xfrm>
            <a:off x="457200" y="1142640"/>
            <a:ext cx="8229600" cy="5357880"/>
          </a:xfrm>
          <a:prstGeom prst="rect">
            <a:avLst/>
          </a:prstGeom>
          <a:noFill/>
          <a:ln w="0">
            <a:noFill/>
          </a:ln>
        </p:spPr>
        <p:txBody>
          <a:bodyPr anchor="t">
            <a:normAutofit fontScale="94000"/>
          </a:bodyPr>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has the ability to use knowledge from other situations to quickly come upon a conclusion. He uses this intelligence to calm his fears.</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 While doing the forfeit, he overcomes his fear by remembering from a book that lizards use perfect weight distribution to climb walls (p.25)</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raws the link between the saucepan in the house and his own (p.61)</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While searching for Filippo, he uses his knowledge of the owl to discover him (p. 207)</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Notices specifics of  how Filippo is being treated poorly (p.108)</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11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ino (Papa) - Overview</a:t>
            </a:r>
            <a:endParaRPr b="0" lang="en-US" sz="3600" spc="-1" strike="noStrike">
              <a:solidFill>
                <a:srgbClr val="696464"/>
              </a:solidFill>
              <a:latin typeface="Franklin Gothic Book"/>
            </a:endParaRPr>
          </a:p>
        </p:txBody>
      </p:sp>
      <p:sp>
        <p:nvSpPr>
          <p:cNvPr id="251" name=""/>
          <p:cNvSpPr txBox="1"/>
          <p:nvPr/>
        </p:nvSpPr>
        <p:spPr>
          <a:xfrm>
            <a:off x="457200" y="1000080"/>
            <a:ext cx="8229600" cy="5500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Perpetua"/>
              </a:rPr>
              <a:t>He’s the ‘boss’ of Acqua Traverse but is eventually shown to be an incompetent criminal – a big fish in a small pond.</a:t>
            </a:r>
            <a:endParaRPr b="0" lang="en-US" sz="27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Perpetua"/>
              </a:rPr>
              <a:t>As a truck driver he’s often away from his family, leaving him quite disconnected from his children</a:t>
            </a:r>
            <a:endParaRPr b="0" lang="en-US" sz="27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Perpetua"/>
              </a:rPr>
              <a:t>He is not inherently evil but a victim of his own incompetence and greed</a:t>
            </a:r>
            <a:endParaRPr b="0" lang="en-US" sz="27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Perpetua"/>
              </a:rPr>
              <a:t>Towards the end he becomes a somewhat pitiable and pathetic creature, indicative of when he loses Soldier’s Draw.</a:t>
            </a:r>
            <a:endParaRPr b="0" lang="en-US" sz="2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ino – Cruelty </a:t>
            </a:r>
            <a:endParaRPr b="0" lang="en-US" sz="3600" spc="-1" strike="noStrike">
              <a:solidFill>
                <a:srgbClr val="696464"/>
              </a:solidFill>
              <a:latin typeface="Franklin Gothic Book"/>
            </a:endParaRPr>
          </a:p>
        </p:txBody>
      </p:sp>
      <p:sp>
        <p:nvSpPr>
          <p:cNvPr id="253" name=""/>
          <p:cNvSpPr txBox="1"/>
          <p:nvPr/>
        </p:nvSpPr>
        <p:spPr>
          <a:xfrm>
            <a:off x="457200" y="999720"/>
            <a:ext cx="8229600" cy="5715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While Pino isn’t as openly violent and aggressive as certain characters, his role in the kidnapping still shows his cruel natur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believes that the downfall of others will lead to the fulfilment of his own goals and ambition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merciless, actively seeking revenge. Papa made the scissors sign with his fingers. “Two ears. We’ll cut off two” (p.86)</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s adoration begins to wain when he connects his father with the treatment of Filippo. “Papa was the bogeyman” (p.87)</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ino – Emotional Manipulator</a:t>
            </a:r>
            <a:endParaRPr b="0" lang="en-US" sz="3600" spc="-1" strike="noStrike">
              <a:solidFill>
                <a:srgbClr val="696464"/>
              </a:solidFill>
              <a:latin typeface="Franklin Gothic Book"/>
            </a:endParaRPr>
          </a:p>
        </p:txBody>
      </p:sp>
      <p:sp>
        <p:nvSpPr>
          <p:cNvPr id="255" name=""/>
          <p:cNvSpPr txBox="1"/>
          <p:nvPr/>
        </p:nvSpPr>
        <p:spPr>
          <a:xfrm>
            <a:off x="457200" y="1143000"/>
            <a:ext cx="8229600" cy="5286240"/>
          </a:xfrm>
          <a:prstGeom prst="rect">
            <a:avLst/>
          </a:prstGeom>
          <a:noFill/>
          <a:ln w="0">
            <a:noFill/>
          </a:ln>
        </p:spPr>
        <p:txBody>
          <a:bodyPr anchor="t">
            <a:normAutofit fontScale="88000"/>
          </a:bodyPr>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ino plays on the emotions and fears of others. Throughout the novel, he shows that he gets what he wants by toying and playing with the emotions of others.</a:t>
            </a:r>
            <a:endParaRPr b="0" lang="en-US" sz="2600" spc="-1" strike="noStrike">
              <a:solidFill>
                <a:srgbClr val="000000"/>
              </a:solidFill>
              <a:latin typeface="Perpetua"/>
            </a:endParaRPr>
          </a:p>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o him, people are just pawns to be played.</a:t>
            </a:r>
            <a:endParaRPr b="0" lang="en-US" sz="2600" spc="-1" strike="noStrike">
              <a:solidFill>
                <a:srgbClr val="000000"/>
              </a:solidFill>
              <a:latin typeface="Perpetua"/>
            </a:endParaRPr>
          </a:p>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40120" indent="-2401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laces the safety of Filippo on Michele’s head, saying that “they” will shoot Filippo and that it would be Michele’s fault (p.156)</a:t>
            </a:r>
            <a:endParaRPr b="0" lang="en-US" sz="2600" spc="-1" strike="noStrike">
              <a:solidFill>
                <a:srgbClr val="000000"/>
              </a:solidFill>
              <a:latin typeface="Perpetua"/>
            </a:endParaRPr>
          </a:p>
          <a:p>
            <a:pPr marL="240120" indent="-2401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reatens that if Michele went back, he would be breaking his father’s oath (p.156)</a:t>
            </a:r>
            <a:endParaRPr b="0" lang="en-US" sz="2600" spc="-1" strike="noStrike">
              <a:solidFill>
                <a:srgbClr val="000000"/>
              </a:solidFill>
              <a:latin typeface="Perpetua"/>
            </a:endParaRPr>
          </a:p>
          <a:p>
            <a:pPr marL="240120" indent="-2401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ries to justify his actions by saying that “the world’s wrong”, thereby shifting the guilt and ultimate blame (p.157)</a:t>
            </a:r>
            <a:endParaRPr b="0" lang="en-US" sz="2600" spc="-1" strike="noStrike">
              <a:solidFill>
                <a:srgbClr val="000000"/>
              </a:solidFill>
              <a:latin typeface="Perpetua"/>
            </a:endParaRPr>
          </a:p>
          <a:p>
            <a:pPr marL="240120" indent="-2401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ino – Emotional Manipulator (cont)</a:t>
            </a:r>
            <a:endParaRPr b="0" lang="en-US" sz="36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Uses gifts as a way of communicating and ‘buying’ actions. eg The Red Dragon to distract Michele from Filippo (p.163).</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istorts the truth, often giving vague and fake promises. And provides misleading answers to questions, eg “they’ll shoot him” (p.156)</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Teresa (Mother) - Overview</a:t>
            </a:r>
            <a:endParaRPr b="0" lang="en-US" sz="3600" spc="-1" strike="noStrike">
              <a:solidFill>
                <a:srgbClr val="696464"/>
              </a:solidFill>
              <a:latin typeface="Franklin Gothic Book"/>
            </a:endParaRPr>
          </a:p>
        </p:txBody>
      </p:sp>
      <p:sp>
        <p:nvSpPr>
          <p:cNvPr id="259" name=""/>
          <p:cNvSpPr txBox="1"/>
          <p:nvPr/>
        </p:nvSpPr>
        <p:spPr>
          <a:xfrm>
            <a:off x="457200" y="1142640"/>
            <a:ext cx="8229600" cy="5357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tereotypical Italian housewif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Unquestioningly devoted to her husban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ncerns herself with her children’s physical needs (food, safety) but is almost blind to their emotional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he lacks any curiosity or concern about Michele’s contact with Filipp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It’s interesting that as a mother, she lacks any maternal connection to the child they are torturing</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Teresa - Powerless</a:t>
            </a:r>
            <a:endParaRPr b="0" lang="en-US" sz="3600" spc="-1" strike="noStrike">
              <a:solidFill>
                <a:srgbClr val="696464"/>
              </a:solidFill>
              <a:latin typeface="Franklin Gothic Book"/>
            </a:endParaRPr>
          </a:p>
        </p:txBody>
      </p:sp>
      <p:sp>
        <p:nvSpPr>
          <p:cNvPr id="261" name=""/>
          <p:cNvSpPr txBox="1"/>
          <p:nvPr/>
        </p:nvSpPr>
        <p:spPr>
          <a:xfrm>
            <a:off x="457200" y="1071720"/>
            <a:ext cx="8229600" cy="52862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eresa is weak and powerless to the evil occurring in Acqua Traverse.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When the adults are becoming irrational and making rash decisions, all she could do was sit and repeat to herself “Be quiet” (p.193-194)</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he was able to do things in the background but remembered to do trivial things like turning off lights and housewife duties (p.84)</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he would attend to her children without being needed for discussion (p.188-191).</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ilippo - Overview</a:t>
            </a:r>
            <a:endParaRPr b="0" lang="en-US" sz="3600" spc="-1" strike="noStrike">
              <a:solidFill>
                <a:srgbClr val="696464"/>
              </a:solidFill>
              <a:latin typeface="Franklin Gothic Book"/>
            </a:endParaRPr>
          </a:p>
        </p:txBody>
      </p:sp>
      <p:sp>
        <p:nvSpPr>
          <p:cNvPr id="263" name=""/>
          <p:cNvSpPr txBox="1"/>
          <p:nvPr/>
        </p:nvSpPr>
        <p:spPr>
          <a:xfrm>
            <a:off x="457200" y="1000080"/>
            <a:ext cx="8229600" cy="5500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9 year-old kidnap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son of Lombard businessman Giovanni Carducc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is mother describes him as “a good boy, polite, very sh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adults have dehumanised him, seeing him as nothing more than a bargaining chip</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ilippo – Traumatised and Abused</a:t>
            </a:r>
            <a:endParaRPr b="0" lang="en-US" sz="3600" spc="-1" strike="noStrike">
              <a:solidFill>
                <a:srgbClr val="696464"/>
              </a:solidFill>
              <a:latin typeface="Franklin Gothic Book"/>
            </a:endParaRPr>
          </a:p>
        </p:txBody>
      </p:sp>
      <p:sp>
        <p:nvSpPr>
          <p:cNvPr id="265" name=""/>
          <p:cNvSpPr txBox="1"/>
          <p:nvPr/>
        </p:nvSpPr>
        <p:spPr>
          <a:xfrm>
            <a:off x="457200" y="928800"/>
            <a:ext cx="8229600" cy="5643360"/>
          </a:xfrm>
          <a:prstGeom prst="rect">
            <a:avLst/>
          </a:prstGeom>
          <a:noFill/>
          <a:ln w="0">
            <a:noFill/>
          </a:ln>
        </p:spPr>
        <p:txBody>
          <a:bodyPr anchor="t">
            <a:normAutofit fontScale="92000"/>
          </a:bodyPr>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ilippo is both mentally and physically abused to the point where he becomes almost a shell of the person he once was.</a:t>
            </a:r>
            <a:endParaRPr b="0" lang="en-US" sz="2600" spc="-1" strike="noStrike">
              <a:solidFill>
                <a:srgbClr val="000000"/>
              </a:solidFill>
              <a:latin typeface="Perpetua"/>
            </a:endParaRPr>
          </a:p>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HYSICALLY</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t>
            </a:r>
            <a:r>
              <a:rPr b="0" lang="en-AU" sz="2600" spc="-1" strike="noStrike">
                <a:solidFill>
                  <a:srgbClr val="000000"/>
                </a:solidFill>
                <a:latin typeface="Perpetua"/>
              </a:rPr>
              <a:t>I couldn’t see him clearly. It was dark and full of flies and the sickening smell welled up” (p.45)</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incredibly vulnerable. There are scabs on his eyes, he’s naked, won’t come out of his blanket, hasn’t eaten.</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t>
            </a:r>
            <a:r>
              <a:rPr b="0" lang="en-AU" sz="2600" spc="-1" strike="noStrike">
                <a:solidFill>
                  <a:srgbClr val="000000"/>
                </a:solidFill>
                <a:latin typeface="Perpetua"/>
              </a:rPr>
              <a:t>The dead boys skin was dirty and caked with mud and shit. He was naked” (p. 46)</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s become scared of physical closeness, due to being hit and the conditions he’s in: “As soon as he felt I was near him, he cowered against the wall” (p.72)</a:t>
            </a:r>
            <a:endParaRPr b="0" lang="en-US" sz="2600" spc="-1" strike="noStrike">
              <a:solidFill>
                <a:srgbClr val="000000"/>
              </a:solidFill>
              <a:latin typeface="Perpetua"/>
            </a:endParaRPr>
          </a:p>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Michele - Overview</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rotagonist – we see the events of the book through Michele’s ey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ue to his young age, and his innocence, there are often gaps between what he understands and what the reader understan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Overall, he is the moral backbone of the novel.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79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ilippo – Traumatised and Abused (cont.)</a:t>
            </a:r>
            <a:endParaRPr b="0" lang="en-US" sz="36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ENTALL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traumatised and lost a sense of reali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 “Outside there’s no air. Outside I’ll suffocate” (139) </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t>
            </a:r>
            <a:r>
              <a:rPr b="0" lang="en-AU" sz="2600" spc="-1" strike="noStrike">
                <a:solidFill>
                  <a:srgbClr val="000000"/>
                </a:solidFill>
                <a:latin typeface="Perpetua"/>
              </a:rPr>
              <a:t>the world’s a place full of holes” (110)</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thinks his family is dead (109)</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obsessed with the wash bears (p.74)</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creates labels / characters to describe the people in his life, such as Lord of the Worms and Guardian Angel (p.74)</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11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elice - Overview</a:t>
            </a:r>
            <a:endParaRPr b="0" lang="en-US" sz="3600" spc="-1" strike="noStrike">
              <a:solidFill>
                <a:srgbClr val="696464"/>
              </a:solidFill>
              <a:latin typeface="Franklin Gothic Book"/>
            </a:endParaRPr>
          </a:p>
        </p:txBody>
      </p:sp>
      <p:sp>
        <p:nvSpPr>
          <p:cNvPr id="269" name=""/>
          <p:cNvSpPr txBox="1"/>
          <p:nvPr/>
        </p:nvSpPr>
        <p:spPr>
          <a:xfrm>
            <a:off x="457200" y="999720"/>
            <a:ext cx="8229600" cy="54291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 sadistic and cruel bully who targets childre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kull’s 20 year-old broth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 “tormented soul”, a loner because of his anti-social behaviou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had left Acqua Traverse – Michele instinctually knew Felice was involv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elice’s innate immorality and violence is alluded to when the way he looks at Teresa changes after intimate parts of her body are expos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225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elice - Contradictory</a:t>
            </a:r>
            <a:endParaRPr b="0" lang="en-US" sz="3600" spc="-1" strike="noStrike">
              <a:solidFill>
                <a:srgbClr val="696464"/>
              </a:solidFill>
              <a:latin typeface="Franklin Gothic Book"/>
            </a:endParaRPr>
          </a:p>
        </p:txBody>
      </p:sp>
      <p:sp>
        <p:nvSpPr>
          <p:cNvPr id="271" name=""/>
          <p:cNvSpPr txBox="1"/>
          <p:nvPr/>
        </p:nvSpPr>
        <p:spPr>
          <a:xfrm>
            <a:off x="457200" y="642600"/>
            <a:ext cx="8229600" cy="6000840"/>
          </a:xfrm>
          <a:prstGeom prst="rect">
            <a:avLst/>
          </a:prstGeom>
          <a:noFill/>
          <a:ln w="0">
            <a:noFill/>
          </a:ln>
        </p:spPr>
        <p:txBody>
          <a:bodyPr anchor="t">
            <a:normAutofit fontScale="93000"/>
          </a:bodyPr>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Felice’s nature is quite contradictory – containing both elements of ‘strong’ (aggressive) and ‘weak’ (vulnerable) characteristics.</a:t>
            </a:r>
            <a:endParaRPr b="0" lang="en-US" sz="25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For example:</a:t>
            </a:r>
            <a:endParaRPr b="0" lang="en-US" sz="25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Strong</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Punches Sergio in the face (p. 192-193)</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Viciously attacks Teresa (p.151-152)</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Treats Filippo poorly, who he threatens to “squash...like a worm” (p.74)</a:t>
            </a:r>
            <a:endParaRPr b="0" lang="en-US" sz="25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Weak</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After the fight with Teresa, runs away from Papa (p. 152)</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Not being able to kill Filippo, despite all the talk (p.193)</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Sheds a tear when Sergio tries to bully him into killing (p.194)</a:t>
            </a: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Sergio - Overview</a:t>
            </a:r>
            <a:endParaRPr b="0" lang="en-US" sz="3600" spc="-1" strike="noStrike">
              <a:solidFill>
                <a:srgbClr val="696464"/>
              </a:solidFill>
              <a:latin typeface="Franklin Gothic Book"/>
            </a:endParaRPr>
          </a:p>
        </p:txBody>
      </p:sp>
      <p:sp>
        <p:nvSpPr>
          <p:cNvPr id="273" name=""/>
          <p:cNvSpPr txBox="1"/>
          <p:nvPr/>
        </p:nvSpPr>
        <p:spPr>
          <a:xfrm>
            <a:off x="457200" y="1143000"/>
            <a:ext cx="8229600" cy="4983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Represents the ‘Nort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has a strong sense of arrogance and superiority over the villag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comes to the South to ‘sort out the mess’ that the villagers have mad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368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Sergio – Evil</a:t>
            </a:r>
            <a:endParaRPr b="0" lang="en-US" sz="3600" spc="-1" strike="noStrike">
              <a:solidFill>
                <a:srgbClr val="696464"/>
              </a:solidFill>
              <a:latin typeface="Franklin Gothic Book"/>
            </a:endParaRPr>
          </a:p>
        </p:txBody>
      </p:sp>
      <p:sp>
        <p:nvSpPr>
          <p:cNvPr id="275" name=""/>
          <p:cNvSpPr txBox="1"/>
          <p:nvPr/>
        </p:nvSpPr>
        <p:spPr>
          <a:xfrm>
            <a:off x="456840" y="857160"/>
            <a:ext cx="8543880" cy="5786640"/>
          </a:xfrm>
          <a:prstGeom prst="rect">
            <a:avLst/>
          </a:prstGeom>
          <a:noFill/>
          <a:ln w="0">
            <a:noFill/>
          </a:ln>
        </p:spPr>
        <p:txBody>
          <a:bodyPr anchor="t">
            <a:normAutofit fontScale="94000"/>
          </a:bodyPr>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re are several indications in the novel that show Sergio as a man to be feared.</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Believing that his son’s wife was responsible for his death, he says he dealt with it - “That bitch paid for it” (p.118)</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ighting escalates from a fist-fight to weaponry. He takes it up a level (p.193)</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reats others with little respect in the way he speaks to them, eg calling the father an imbecile (p.84)</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way he speaks to Michele, “are you quiet. I like quiet children” (p.93)</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Lazy, monopolises situations, opportunistic – evident in his description of Brazil (p.167)</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439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The Gang</a:t>
            </a:r>
            <a:endParaRPr b="0" lang="en-US" sz="3600" spc="-1" strike="noStrike">
              <a:solidFill>
                <a:srgbClr val="696464"/>
              </a:solidFill>
              <a:latin typeface="Franklin Gothic Book"/>
            </a:endParaRPr>
          </a:p>
        </p:txBody>
      </p:sp>
      <p:sp>
        <p:nvSpPr>
          <p:cNvPr id="277" name=""/>
          <p:cNvSpPr txBox="1"/>
          <p:nvPr/>
        </p:nvSpPr>
        <p:spPr>
          <a:xfrm>
            <a:off x="285480" y="785880"/>
            <a:ext cx="8643960" cy="5929200"/>
          </a:xfrm>
          <a:prstGeom prst="rect">
            <a:avLst/>
          </a:prstGeom>
          <a:noFill/>
          <a:ln w="0">
            <a:noFill/>
          </a:ln>
        </p:spPr>
        <p:txBody>
          <a:bodyPr anchor="t">
            <a:normAutofit fontScale="95000"/>
          </a:bodyPr>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Skull</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Brute who doesn’t like to be told he’s wrong. Evident with Milichetti’s pigs (p.10). </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ominates everyone: “It’s nothing to do with you, shut up”.</a:t>
            </a:r>
            <a:endParaRPr b="0" lang="en-US" sz="26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    He’s sadistic and perverted, evident with the forfeit he asks of Barbara (p.19)</a:t>
            </a:r>
            <a:endParaRPr b="0" lang="en-US" sz="26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Salvatore </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Quiet and follows orders around him to make others pleased “he was brighter that Skull and could have easily deposed him” (p.3)</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Introverted, evident with the piano lessons (p.130-131)</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mes from a wealthy family, mother’s obnoxious with their wealth (p.126-127)</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439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The Gang (cont.)</a:t>
            </a:r>
            <a:endParaRPr b="0" lang="en-US" sz="3600" spc="-1" strike="noStrike">
              <a:solidFill>
                <a:srgbClr val="696464"/>
              </a:solidFill>
              <a:latin typeface="Franklin Gothic Book"/>
            </a:endParaRPr>
          </a:p>
        </p:txBody>
      </p:sp>
      <p:sp>
        <p:nvSpPr>
          <p:cNvPr id="279" name=""/>
          <p:cNvSpPr txBox="1"/>
          <p:nvPr/>
        </p:nvSpPr>
        <p:spPr>
          <a:xfrm>
            <a:off x="456840" y="785520"/>
            <a:ext cx="8472600" cy="5786280"/>
          </a:xfrm>
          <a:prstGeom prst="rect">
            <a:avLst/>
          </a:prstGeom>
          <a:noFill/>
          <a:ln w="0">
            <a:noFill/>
          </a:ln>
        </p:spPr>
        <p:txBody>
          <a:bodyPr anchor="t">
            <a:normAutofit fontScale="93000"/>
          </a:bodyPr>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Barbara</a:t>
            </a:r>
            <a:r>
              <a:rPr b="0" lang="en-AU" sz="2600" spc="-1" strike="noStrike">
                <a:solidFill>
                  <a:srgbClr val="000000"/>
                </a:solidFill>
                <a:latin typeface="Perpetua"/>
              </a:rPr>
              <a:t> </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Obnoxious; she is a sheep and falls easily into orders. </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espite initial protests, she always does the forfeit, but finds another way for revenge. For example, telling Milichetti what Skull had said about his pigs (p.11)</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sks Michele to be her boyfriend (p.98), which he recoils at, but is still polite to her. </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Remo</a:t>
            </a:r>
            <a:r>
              <a:rPr b="0" lang="en-AU" sz="2600" spc="-1" strike="noStrike">
                <a:solidFill>
                  <a:srgbClr val="000000"/>
                </a:solidFill>
                <a:latin typeface="Perpetua"/>
              </a:rPr>
              <a:t> </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in the background but goes along with the gang.</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Maria</a:t>
            </a:r>
            <a:r>
              <a:rPr b="0" lang="en-AU" sz="2600" spc="-1" strike="noStrike">
                <a:solidFill>
                  <a:srgbClr val="000000"/>
                </a:solidFill>
                <a:latin typeface="Perpetua"/>
              </a:rPr>
              <a:t> </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Youngest. Tries to follow the gang but is only there because of Teresa’s influence.</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Looks up to Michele, always wants to do what he’s doing.</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Michele and Papa</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originally idolises his father. He thinks his father can do no wrong. As the novel progresses, Michele is exposed to the true nature of his father’s charact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t first he tries to rationalise his father’s actions but he eventually can’t deny the fact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Michele and Filippo</a:t>
            </a:r>
            <a:endParaRPr b="0" lang="en-US" sz="40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t’s a relationship of familiarity – they are the same age, same height.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Michele originally sees Filippo as a prize he has won. Later, his caring nature makes him feel obliged to help him.</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Michele becomes Filippo’s “guardian ange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Filippo becomes attached to Michele, eg when he won’t leave him (p.213)</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Relationships: Michele and Salvatore</a:t>
            </a:r>
            <a:endParaRPr b="0" lang="en-US" sz="36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Best friends. Do whatever they feel is in the best interests of each other or themselv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alvatore betrays Michele for a driving lesso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alvatore wins back Michele’s trust by helping him win 40-40.</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alvatore ends up helping Michele find Filippo</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11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Loyalty</a:t>
            </a:r>
            <a:endParaRPr b="0" lang="en-US" sz="3600" spc="-1" strike="noStrike">
              <a:solidFill>
                <a:srgbClr val="696464"/>
              </a:solidFill>
              <a:latin typeface="Franklin Gothic Book"/>
            </a:endParaRPr>
          </a:p>
        </p:txBody>
      </p:sp>
      <p:sp>
        <p:nvSpPr>
          <p:cNvPr id="233" name=""/>
          <p:cNvSpPr txBox="1"/>
          <p:nvPr/>
        </p:nvSpPr>
        <p:spPr>
          <a:xfrm>
            <a:off x="457200" y="857160"/>
            <a:ext cx="8229600" cy="58579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is very loyal and the novel highlights the tension between these loyalti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loyal to:</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arents – constant excuses and sympathy for their blatant wrongdoing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aria – acts as the Big Brother figur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ilippo – he can’t leave him alone, especially after he promises he’ll come back</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Perpetua"/>
              </a:rPr>
              <a:t>His innately loyal nature is why he compares himself to Judas when he betrays Filippo to Salvator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Michele and Felice</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on’t like each oth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elice bullies Michel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When Felice find Michele in the hole, he beats h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fears Felice.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The Family</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atriarchal family – father is the head (disciplinarian, breadwinner), mother housewife et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amily is quite disconnected because of Pino’s long trips. This is a heavy burden on Teres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children idolise the parents. While the parents look after the fundamentals of their children’s well-being, they take no interest in their emotional happines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The Adults</a:t>
            </a:r>
            <a:endParaRPr b="0" lang="en-US" sz="4000" spc="-1" strike="noStrike">
              <a:solidFill>
                <a:srgbClr val="696464"/>
              </a:solidFill>
              <a:latin typeface="Franklin Gothic Book"/>
            </a:endParaRPr>
          </a:p>
        </p:txBody>
      </p:sp>
      <p:sp>
        <p:nvSpPr>
          <p:cNvPr id="29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adults don’t trust each other and are very quick to turn and point the finger of blam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696464"/>
              </a:solidFill>
              <a:latin typeface="Franklin Gothic Book"/>
            </a:endParaRPr>
          </a:p>
        </p:txBody>
      </p:sp>
      <p:sp>
        <p:nvSpPr>
          <p:cNvPr id="2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V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Insigh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11B Class 2010</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25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Compassion</a:t>
            </a:r>
            <a:endParaRPr b="0" lang="en-US" sz="3600" spc="-1" strike="noStrike">
              <a:solidFill>
                <a:srgbClr val="696464"/>
              </a:solidFill>
              <a:latin typeface="Franklin Gothic Book"/>
            </a:endParaRPr>
          </a:p>
        </p:txBody>
      </p:sp>
      <p:sp>
        <p:nvSpPr>
          <p:cNvPr id="235" name=""/>
          <p:cNvSpPr txBox="1"/>
          <p:nvPr/>
        </p:nvSpPr>
        <p:spPr>
          <a:xfrm>
            <a:off x="457200" y="999720"/>
            <a:ext cx="8229600" cy="56437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displays compassion to those he considers vulnerabl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Returning to help his sister during the race up the hill, despite fear of being last (p.4)</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Overcoming his initial revulsion of Filippo (p.112)</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Ignores his pain to get Filippo out of the hole (p.212)</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desire to tell Filippo that his mother loves him (p.95)</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Morality</a:t>
            </a:r>
            <a:endParaRPr b="0" lang="en-US" sz="3600" spc="-1" strike="noStrike">
              <a:solidFill>
                <a:srgbClr val="696464"/>
              </a:solidFill>
              <a:latin typeface="Franklin Gothic Book"/>
            </a:endParaRPr>
          </a:p>
        </p:txBody>
      </p:sp>
      <p:sp>
        <p:nvSpPr>
          <p:cNvPr id="237" name=""/>
          <p:cNvSpPr txBox="1"/>
          <p:nvPr/>
        </p:nvSpPr>
        <p:spPr>
          <a:xfrm>
            <a:off x="457200" y="928440"/>
            <a:ext cx="8229600" cy="51973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Unlike the adults (and some of the children), Michele maintains a strong sense of personal integrity and justic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mpletes the forfeit in place of Barbara as an act of chivalr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Perpetua"/>
              </a:rPr>
              <a:t>“</a:t>
            </a:r>
            <a:r>
              <a:rPr b="0" i="1" lang="en-AU" sz="2600" spc="-1" strike="noStrike">
                <a:solidFill>
                  <a:srgbClr val="000000"/>
                </a:solidFill>
                <a:latin typeface="Perpetua"/>
              </a:rPr>
              <a:t>There was something dirty, something...I don’t know. Something nasty that’s all. And I didn’t like my sister being there.” </a:t>
            </a:r>
            <a:r>
              <a:rPr b="0" lang="en-AU" sz="2600" spc="-1" strike="noStrike">
                <a:solidFill>
                  <a:srgbClr val="000000"/>
                </a:solidFill>
                <a:latin typeface="Perpetua"/>
              </a:rPr>
              <a:t>(p. 19)</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Imaginative</a:t>
            </a:r>
            <a:endParaRPr b="0" lang="en-US" sz="3600" spc="-1" strike="noStrike">
              <a:solidFill>
                <a:srgbClr val="696464"/>
              </a:solidFill>
              <a:latin typeface="Franklin Gothic Book"/>
            </a:endParaRPr>
          </a:p>
        </p:txBody>
      </p:sp>
      <p:sp>
        <p:nvSpPr>
          <p:cNvPr id="239" name=""/>
          <p:cNvSpPr txBox="1"/>
          <p:nvPr/>
        </p:nvSpPr>
        <p:spPr>
          <a:xfrm>
            <a:off x="457200" y="1071720"/>
            <a:ext cx="8229600" cy="5286240"/>
          </a:xfrm>
          <a:prstGeom prst="rect">
            <a:avLst/>
          </a:prstGeom>
          <a:noFill/>
          <a:ln w="0">
            <a:noFill/>
          </a:ln>
        </p:spPr>
        <p:txBody>
          <a:bodyPr anchor="t">
            <a:normAutofit fontScale="94000"/>
          </a:bodyPr>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Michele has an active imagination that informs his perceptions of the world.</a:t>
            </a:r>
            <a:endParaRPr b="0" lang="en-US" sz="28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He creates narratives by infusing fantasy with reality. </a:t>
            </a:r>
            <a:endParaRPr b="0" lang="en-US" sz="28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His imagination is the thing that both fuels and eases his fears.</a:t>
            </a:r>
            <a:endParaRPr b="0" lang="en-US" sz="28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For example:</a:t>
            </a:r>
            <a:endParaRPr b="0" lang="en-US" sz="28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Uses mythical creatures, such as Tiger Jack and the monsters entering the bus, to overcome his fears (p.114-115)</a:t>
            </a:r>
            <a:endParaRPr b="0" lang="en-US" sz="28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Uses analogies to explain situations, cat cruelly taunting the lizard (p.184)</a:t>
            </a:r>
            <a:endParaRPr b="0" lang="en-US" sz="28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42560"/>
            <a:ext cx="8229600" cy="571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Courageous</a:t>
            </a:r>
            <a:endParaRPr b="0" lang="en-US" sz="3600" spc="-1" strike="noStrike">
              <a:solidFill>
                <a:srgbClr val="696464"/>
              </a:solidFill>
              <a:latin typeface="Franklin Gothic Book"/>
            </a:endParaRPr>
          </a:p>
        </p:txBody>
      </p:sp>
      <p:sp>
        <p:nvSpPr>
          <p:cNvPr id="241" name=""/>
          <p:cNvSpPr txBox="1"/>
          <p:nvPr/>
        </p:nvSpPr>
        <p:spPr>
          <a:xfrm>
            <a:off x="457200" y="785880"/>
            <a:ext cx="8229600" cy="59292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has very little confidence in himself yet will always stand up against his fear, not only to protect himself but other peopl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tanding up for Barbara in the forfeit, despite being afraid of Skull (p.20)</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mpares himself to Tiger Jack (p.44-45)</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defends his mother and throws himself at Felice to protect her (p.152)</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sneaks out to find Filippo when he knows they are coming to murder him (p.195)</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tells his father to “run for it”, even though he is shot and dying in the hole (p.21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Innocence</a:t>
            </a:r>
            <a:endParaRPr b="0" lang="en-US" sz="3600" spc="-1" strike="noStrike">
              <a:solidFill>
                <a:srgbClr val="696464"/>
              </a:solidFill>
              <a:latin typeface="Franklin Gothic Book"/>
            </a:endParaRPr>
          </a:p>
        </p:txBody>
      </p:sp>
      <p:sp>
        <p:nvSpPr>
          <p:cNvPr id="243" name=""/>
          <p:cNvSpPr txBox="1"/>
          <p:nvPr/>
        </p:nvSpPr>
        <p:spPr>
          <a:xfrm>
            <a:off x="457200" y="1071720"/>
            <a:ext cx="8229600" cy="5054400"/>
          </a:xfrm>
          <a:prstGeom prst="rect">
            <a:avLst/>
          </a:prstGeom>
          <a:noFill/>
          <a:ln w="0">
            <a:noFill/>
          </a:ln>
        </p:spPr>
        <p:txBody>
          <a:bodyPr anchor="t">
            <a:normAutofit fontScale="96000"/>
          </a:bodyPr>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Michele’s innocent nature is most striking when looking at how he deals with his fears, and the reference points he uses to understand situations.</a:t>
            </a:r>
            <a:endParaRPr b="0" lang="en-US" sz="25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At first he was afraid of ogres and witches, explaining that the boy was down the hole because “he had been caught by an ogre” (p.39). </a:t>
            </a:r>
            <a:endParaRPr b="0" lang="en-US" sz="25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The form of his shape and fears is fantasy but his ability to sense the presence of evil is not.</a:t>
            </a:r>
            <a:endParaRPr b="0" lang="en-US" sz="25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As he is confronted with ever-increasing traumatic situations from the adult world, he slowly begins to accept the horrible truth that “monsters don’t exist...It’s men you should be afraid of, not monsters...” (p.49)</a:t>
            </a: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Michele- Innocence (cont.)</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For example:</a:t>
            </a:r>
            <a:endParaRPr b="0" lang="en-US" sz="2500" spc="-1" strike="noStrike">
              <a:solidFill>
                <a:srgbClr val="000000"/>
              </a:solidFill>
              <a:latin typeface="Perpetua"/>
            </a:endParaRPr>
          </a:p>
          <a:p>
            <a:pPr marL="259200" indent="-2592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In the beginning he is too young to understand kidnapping or grasp the implications. However, he is later afraid that Sergio will “take me away” (p.94). This shows he has an instinctual understanding. </a:t>
            </a:r>
            <a:endParaRPr b="0" lang="en-US" sz="2500" spc="-1" strike="noStrike">
              <a:solidFill>
                <a:srgbClr val="000000"/>
              </a:solidFill>
              <a:latin typeface="Perpetua"/>
            </a:endParaRPr>
          </a:p>
          <a:p>
            <a:pPr marL="259200" indent="-2592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Originally viewed Filippos as a prize (p.29)</a:t>
            </a:r>
            <a:endParaRPr b="0" lang="en-US" sz="2500" spc="-1" strike="noStrike">
              <a:solidFill>
                <a:srgbClr val="000000"/>
              </a:solidFill>
              <a:latin typeface="Perpetua"/>
            </a:endParaRPr>
          </a:p>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   Michele believed Filippo was being tortured by witches and ogres (p.56)</a:t>
            </a:r>
            <a:endParaRPr b="0" lang="en-US" sz="2500" spc="-1" strike="noStrike">
              <a:solidFill>
                <a:srgbClr val="000000"/>
              </a:solidFill>
              <a:latin typeface="Perpetua"/>
            </a:endParaRPr>
          </a:p>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   Admits to being naive as to why Barbara was always picked on: “I don’t know but even then I knew that someone always gets the bad luck” (p.18)</a:t>
            </a:r>
            <a:endParaRPr b="0" lang="en-US" sz="2500" spc="-1" strike="noStrike">
              <a:solidFill>
                <a:srgbClr val="000000"/>
              </a:solidFill>
              <a:latin typeface="Perpetua"/>
            </a:endParaRPr>
          </a:p>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01:15:00Z</dcterms:created>
  <dc:creator>Education</dc:creator>
  <dc:description/>
  <dc:language>en-US</dc:language>
  <cp:lastModifiedBy>David Nguyen</cp:lastModifiedBy>
  <dcterms:modified xsi:type="dcterms:W3CDTF">2015-08-28T04:26:32Z</dcterms:modified>
  <cp:revision>102</cp:revision>
  <dc:subject/>
  <dc:title>I’m Not Scared</dc:title>
</cp:coreProperties>
</file>